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B90-C2C0-43B6-9F11-A7956A38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22E-863F-43C3-8B95-41C769B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E92-FFF6-429D-A375-F25BEA6F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559-6DA6-48B9-BD37-7D6F885C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86B9-CB04-4646-8DA8-17A5B174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4DF-9724-4B79-BC9B-979C9F4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6A11-64C3-4F47-B0E5-2EA95076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C17F-20C4-45F3-AE3D-7589D1A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67D6-B7B7-4D3A-8FAC-9ADD94A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0256-59DA-49F9-85B7-2F34CD9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4972-46B5-4F5F-AEC3-63BC5EC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041-E5A9-4B18-ADF1-327C1AC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AB0B-109D-4B0F-A8D0-F795855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58C-676E-4BEF-85E3-ABF96E3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60BB-C21D-45FF-9539-692089D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C591-E694-4EED-925E-6D64C959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EC63-C4C6-490C-B635-8AB91670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BE3-DC40-4EDB-BC29-9A63F487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C08-2A1F-4146-B544-D37001B9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24E-E85F-4AED-8DD4-9DEFF9D1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AD3-8CA9-452B-B147-3089DEAA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094-15D9-426B-A87B-858FA697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506-F4E1-493E-8935-BB970236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071-6197-4665-975E-82AB1D2D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A9F8-5270-4A2E-8EE7-400DA81F25F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88F5-F719-4098-8DD7-B2C29E05C8E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hyperlink" Target="http://www.wikispaces.com/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ducationwithkris.wikispaces.com/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FMS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Wikis”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9/8/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Make A Wiki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www.wikispaces.c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146560" y="2286000"/>
            <a:ext cx="289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 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“create your own classroom wiki toda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l out the information in “join now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 sure to pick a wiki name your like, it will be difficult to change la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are ready to add content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’s that ea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14600" y="266076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oose page to ed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 curser to area to add 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gin typing descrip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81480" y="2198520"/>
            <a:ext cx="3962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on the picture ic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owse your computer for the docu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click to ad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105520" y="2498760"/>
            <a:ext cx="327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view screen cast on “Home Pag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7120" y="2057400"/>
            <a:ext cx="298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630760" y="205740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 is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bsite that allows the user (s) to post and share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670720" y="16002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 of “Wiki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safe place to post content on the inter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83080" y="2514600"/>
            <a:ext cx="25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oup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d Ca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ip Cam” Vide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81480" y="26607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add con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set perimet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perform better when they have an audi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633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 of Inform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t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c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05520" y="2824200"/>
            <a:ext cx="3352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ntralized 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Efficient than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Docu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’s 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105520" y="2486160"/>
            <a:ext cx="2971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educationwithkris.wikispaces.co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3505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36:51Z</dcterms:created>
  <dc:creator>North Rockland Schools</dc:creator>
  <dc:description/>
  <dc:language>en-US</dc:language>
  <cp:lastModifiedBy>North Rockland Schools</cp:lastModifiedBy>
  <dcterms:modified xsi:type="dcterms:W3CDTF">2009-09-08T11:32:12Z</dcterms:modified>
  <cp:revision>3</cp:revision>
  <dc:subject/>
  <dc:title>ALF 8/31/09 </dc:title>
</cp:coreProperties>
</file>